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80281"/>
        <c:axId val="12982655"/>
      </c:barChart>
      <c:catAx>
        <c:axId val="73380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82655"/>
        <c:crosses val="autoZero"/>
        <c:auto val="1"/>
        <c:lblAlgn val="ctr"/>
        <c:lblOffset val="100"/>
        <c:noMultiLvlLbl val="0"/>
      </c:catAx>
      <c:valAx>
        <c:axId val="12982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80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71A-7C72-4A29-9AFB-25BA15B8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4FF-5CE0-4877-9696-3BC52AE9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12B-E96A-4BD6-8FEF-0A7AD723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92C-5548-45A2-9869-E397D10F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EF1-365C-4314-B054-A537E102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B28-B102-4CBD-8E79-8A9525E5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F9A-0BA9-452A-9037-E7FCD9B9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881-B94F-4DE0-90A3-DFFE7C02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16D-3792-4879-993E-839CEF12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505-9654-40C9-9489-3F5175E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AC1-A5A8-4601-991B-98495ED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0E4-DA4B-449A-95FD-81CFCAFF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AA785-B92B-4BD8-9E33-1AB99FC944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